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E97F6-18DD-41D1-ACD9-E4823D02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CCE1-6924-4EF0-BB80-18C78353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80E88-5442-4228-8C82-13CB5CD5C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ADA4E-73A2-49EC-B5E2-0DB637CB8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79741-7ED2-4ED3-9AA9-F21B811D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5826-D69C-4B71-95C9-75A8A13E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00BE-AA7E-4DD0-BBC7-9F03DD90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295CE-43C2-4008-AF71-4765FFD7E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ADF6-D3D6-49A9-BAE7-15855A71E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C6CF-A46E-4B4B-9485-7FC46134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25CE-48FE-40BF-BE46-E610816D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EE5D-63C1-4313-9B06-15FD930B1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F2F1-6F66-4D11-8FD6-C1C7751CA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Blinky best?</a:t>
            </a:r>
            <a:br>
              <a:rPr sz="4000"/>
            </a:br>
            <a:r>
              <a:rPr b="0" lang="en-GB" sz="4000" spc="-1" strike="noStrike">
                <a:solidFill>
                  <a:srgbClr val="000000"/>
                </a:solidFill>
                <a:latin typeface="Arial"/>
              </a:rPr>
              <a:t>or</a:t>
            </a:r>
            <a:br>
              <a:rPr sz="4000"/>
            </a:br>
            <a:r>
              <a:rPr b="0" lang="en-GB" sz="4000" spc="-1" strike="noStrike">
                <a:solidFill>
                  <a:srgbClr val="000000"/>
                </a:solidFill>
                <a:latin typeface="Arial"/>
              </a:rPr>
              <a:t>Natural Selectio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sometimes they can be useful</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ith sickle cell also have a resistance to malaria</a:t>
            </a:r>
            <a:endParaRPr b="0" lang="en-US" sz="3200" spc="-1" strike="noStrike">
              <a:solidFill>
                <a:srgbClr val="000000"/>
              </a:solidFill>
              <a:latin typeface="Arial"/>
            </a:endParaRPr>
          </a:p>
        </p:txBody>
      </p:sp>
      <p:pic>
        <p:nvPicPr>
          <p:cNvPr id="72" name="" descr=""/>
          <p:cNvPicPr/>
          <p:nvPr/>
        </p:nvPicPr>
        <p:blipFill>
          <a:blip r:embed="rId1"/>
          <a:stretch/>
        </p:blipFill>
        <p:spPr>
          <a:xfrm>
            <a:off x="826920" y="2741760"/>
            <a:ext cx="3240360" cy="201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sometimes they can be useful</a:t>
            </a:r>
            <a:endParaRPr b="0" lang="en-US" sz="4000" spc="-1" strike="noStrike">
              <a:solidFill>
                <a:srgbClr val="000000"/>
              </a:solidFill>
              <a:latin typeface="Arial"/>
            </a:endParaRPr>
          </a:p>
        </p:txBody>
      </p:sp>
      <p:pic>
        <p:nvPicPr>
          <p:cNvPr id="74" name="" descr=""/>
          <p:cNvPicPr/>
          <p:nvPr/>
        </p:nvPicPr>
        <p:blipFill>
          <a:blip r:embed="rId1"/>
          <a:stretch/>
        </p:blipFill>
        <p:spPr>
          <a:xfrm>
            <a:off x="4067280" y="3213000"/>
            <a:ext cx="4632120" cy="3038400"/>
          </a:xfrm>
          <a:prstGeom prst="rect">
            <a:avLst/>
          </a:prstGeom>
          <a:ln w="0">
            <a:noFill/>
          </a:ln>
        </p:spPr>
      </p:pic>
      <p:sp>
        <p:nvSpPr>
          <p:cNvPr id="7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utation in some oysters made them resistant to Malpeque disease which wiped out nearly all the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la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s filled bli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utation gave the male peacock a larger tail</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use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1619280" y="2149560"/>
            <a:ext cx="4248000" cy="325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utation made this cactus make spines instead of leave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use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1476360" y="2276640"/>
            <a:ext cx="5807160" cy="43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e peppered moth?</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bscribe for a free 2 day trial by typing experience as a use name and echalk as passwork.(Or we might have licenses by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do to science/biology/peppered moth sim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t a volunteer to move the mouse over the moths and click to “eat”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selec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utation is useful, the animal lives longer.  This useful mutation is then passed from generation to generation and help them to survive.  Mutations can cause rapid changes in a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 these words in ord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passed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example of an unwanted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example of a useful m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mutations can cause rapid changes in a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utant school ch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nt – good or ba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1979640" y="134136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nt – good or ba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700360" y="1484280"/>
            <a:ext cx="3057480" cy="459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s are the instructions that make you what you 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illustrtion of a cell making protein"/>
          <p:cNvPicPr/>
          <p:nvPr/>
        </p:nvPicPr>
        <p:blipFill>
          <a:blip r:embed="rId1"/>
          <a:stretch/>
        </p:blipFill>
        <p:spPr>
          <a:xfrm>
            <a:off x="1403280" y="2924280"/>
            <a:ext cx="4686480" cy="2381040"/>
          </a:xfrm>
          <a:prstGeom prst="rect">
            <a:avLst/>
          </a:prstGeom>
          <a:ln w="0">
            <a:noFill/>
          </a:ln>
        </p:spPr>
      </p:pic>
      <p:sp>
        <p:nvSpPr>
          <p:cNvPr id="52" name=""/>
          <p:cNvSpPr/>
          <p:nvPr/>
        </p:nvSpPr>
        <p:spPr>
          <a:xfrm>
            <a:off x="3851280" y="2637000"/>
            <a:ext cx="2521080" cy="316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genes link together of long chains called chromosomes (we have 4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2340000" y="2565360"/>
            <a:ext cx="4286160" cy="39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mu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se chromosomes reproduce, sometimes the genes link in the wrong order – this is a mu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2843280" y="3284640"/>
            <a:ext cx="293364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imes mutations can be bad</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670716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erited Breast Cancer </a:t>
            </a:r>
            <a:br>
              <a:rPr sz="2400"/>
            </a:br>
            <a:r>
              <a:rPr b="1" lang="en-US" sz="2400" spc="-1" strike="noStrike">
                <a:solidFill>
                  <a:srgbClr val="000000"/>
                </a:solidFill>
                <a:latin typeface="Arial"/>
              </a:rPr>
              <a:t>Plays Very Small Role in Breast Cancer</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nly 5-10 % of breast and ovarian cancer is inherited, meaning the majority of women who develop breast and/or ovarian cancer do not have the genetic mutation.  Patterns that suggest that breast cancer may have been inherited include women diagnosed with breast cancer at a young age (&lt; age 45).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e all have the BRCA 1 and 2 genes, which are located on chromosome 13 and 17, respectively.  A mutation in the form of extra DNA or loss of DNA that occurs in the gene is a  problem.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7524720" y="1989000"/>
            <a:ext cx="1162080" cy="17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bad muta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beginning of the twentieth century, evolutionary biologists have sought examples of useful mutations by creating mutant flies. But these efforts have always resulted in sick and deformed creatures. The left picture shows the head of a normal fruit fly, and the picture on the right shows the head of fruit fly with legs coming out of it, the result of mut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 name="" descr=""/>
          <p:cNvPicPr/>
          <p:nvPr/>
        </p:nvPicPr>
        <p:blipFill>
          <a:blip r:embed="rId1"/>
          <a:stretch/>
        </p:blipFill>
        <p:spPr>
          <a:xfrm>
            <a:off x="5364000" y="2544840"/>
            <a:ext cx="317340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ed frogs and fl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468360" y="1628640"/>
            <a:ext cx="4753080" cy="3043440"/>
          </a:xfrm>
          <a:prstGeom prst="rect">
            <a:avLst/>
          </a:prstGeom>
          <a:ln w="0">
            <a:noFill/>
          </a:ln>
        </p:spPr>
      </p:pic>
      <p:pic>
        <p:nvPicPr>
          <p:cNvPr id="68" name="" descr=""/>
          <p:cNvPicPr/>
          <p:nvPr/>
        </p:nvPicPr>
        <p:blipFill>
          <a:blip r:embed="rId2"/>
          <a:stretch/>
        </p:blipFill>
        <p:spPr>
          <a:xfrm>
            <a:off x="5580000" y="1628640"/>
            <a:ext cx="2598840" cy="3137040"/>
          </a:xfrm>
          <a:prstGeom prst="rect">
            <a:avLst/>
          </a:prstGeom>
          <a:ln w="0">
            <a:noFill/>
          </a:ln>
        </p:spPr>
      </p:pic>
      <p:sp>
        <p:nvSpPr>
          <p:cNvPr id="69" name=""/>
          <p:cNvSpPr/>
          <p:nvPr/>
        </p:nvSpPr>
        <p:spPr>
          <a:xfrm>
            <a:off x="5941800" y="4941360"/>
            <a:ext cx="1920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ant fly with </a:t>
            </a:r>
            <a:br>
              <a:rPr sz="1800"/>
            </a:br>
            <a:r>
              <a:rPr b="0" lang="en-US" sz="1800" spc="-1" strike="noStrike">
                <a:solidFill>
                  <a:srgbClr val="000000"/>
                </a:solidFill>
                <a:latin typeface="Arial"/>
              </a:rPr>
              <a:t>deformed wing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2:03:45Z</dcterms:created>
  <dc:creator>sthobbsc</dc:creator>
  <dc:description/>
  <dc:language>en-US</dc:language>
  <cp:lastModifiedBy>sthobbsc</cp:lastModifiedBy>
  <dcterms:modified xsi:type="dcterms:W3CDTF">2006-10-13T12:15:12Z</dcterms:modified>
  <cp:revision>5</cp:revision>
  <dc:subject/>
  <dc:title>Is Blinky best? or Natural Selection</dc:title>
</cp:coreProperties>
</file>